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085-5935-460E-8CEC-62AE98DA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B52-62E0-4BEB-9AAD-8E31D36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2FB-1A3B-4EE0-9E5A-CD5357EA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467-8054-40A2-A853-C268E449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8302-0378-44E8-AB52-0F65747F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F57-ACEA-410D-A503-2A551EC9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7B3A-DD62-43BD-BE32-E63AF4DA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3D38-67B8-439F-92D9-915F6CC5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F56D-F9EE-46CF-8610-D12A69B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9946-4FD1-49A2-8A49-CAC06BC8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33CA-034B-428E-9E96-644DF3C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CBF-58D0-41A3-8F58-A50175D7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5428-3476-424D-9196-EB27AC6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D62F-59D3-4DC3-BD7D-0B160AE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45BF-1302-4C36-8EDF-C7C3CF77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C67C-5B74-4233-ABF6-F46BAB51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86F0-5923-4F48-8560-6838563C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2D2-B947-46AA-8311-31432BF3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A0F-E417-40CF-8DAE-E4AADBD8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A55-1029-4006-8474-480C0F75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CE2-7A9B-4014-AC17-500A405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CF2-207B-42AD-99C8-0632C15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F21-D06E-49B6-84DD-445773F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ED0-A605-445C-ACED-ED3E824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D65C-459B-4E05-914B-59DDF55A8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D16-1227-4B3C-8F54-A8C6B93EA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rth Si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llie McGu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ine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roperties of Minerals ar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dimentary Rock form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gneous R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gneous Rock form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amorphic Rock form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rth’s Layer’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has 4 layers the Inner core, outer core, Mantle, and Cr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ner Core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er Core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tle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ust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Earth's Layers"/>
          <p:cNvPicPr/>
          <p:nvPr/>
        </p:nvPicPr>
        <p:blipFill>
          <a:blip r:embed="rId2"/>
          <a:stretch/>
        </p:blipFill>
        <p:spPr>
          <a:xfrm>
            <a:off x="4495680" y="2971800"/>
            <a:ext cx="4162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l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 Tectonic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al Drift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 Boundaries i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4024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ing Boundar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50292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acture Boundar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Boundar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6514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liding Boundar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ding Boundar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colliding boundary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rthquak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center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itud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Earthqu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olcano happens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Rock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Mineral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47:00Z</dcterms:created>
  <dc:creator>emcguire</dc:creator>
  <dc:description/>
  <dc:language>en-US</dc:language>
  <cp:lastModifiedBy>emcguire</cp:lastModifiedBy>
  <dcterms:modified xsi:type="dcterms:W3CDTF">2011-03-16T17:48:29Z</dcterms:modified>
  <cp:revision>2</cp:revision>
  <dc:subject/>
  <dc:title>Earth Sience</dc:title>
</cp:coreProperties>
</file>